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B60D9-154F-49D9-BA31-C1B44FE65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EFC14-6DA0-4814-A77C-36CD8A1B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649E9-910D-48F4-AACE-F5CF67B6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223D5-3DF6-4558-94B9-0329032F3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68C6-7C4B-4A66-B5FA-9867A4783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045C7-6C90-46DC-96D4-47DFBA1BB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297E-9A80-4052-B13D-8A0DE83FA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90D14-72C7-49A2-8ECA-238F4A6E2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AA7BE-DBC5-4F4F-A7B4-A5699D9A4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C180-70CC-4A5E-8D85-24E52853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65190-AECB-47A8-93CD-187F62BD0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0B76-A5B6-4F29-9C51-53AE2919C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068D-1576-41DC-8C22-FCCBDCF8F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Snadná cesta k přechodu Venuš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066680" y="3886200"/>
            <a:ext cx="70106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čná, zábavná a přesná</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5" name="poz4"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6" name="poz1"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ěkujeme Vám za pozornost</a:t>
            </a:r>
            <a:endParaRPr b="0" lang="en-US" sz="4400" spc="-1" strike="noStrike">
              <a:solidFill>
                <a:srgbClr val="000000"/>
              </a:solidFill>
              <a:latin typeface="Times New Roman"/>
            </a:endParaRPr>
          </a:p>
        </p:txBody>
      </p:sp>
      <p:pic>
        <p:nvPicPr>
          <p:cNvPr id="58" name="poz5" descr=""/>
          <p:cNvPicPr/>
          <p:nvPr/>
        </p:nvPicPr>
        <p:blipFill>
          <a:blip r:embed="rId1"/>
          <a:stretch/>
        </p:blipFill>
        <p:spPr>
          <a:xfrm>
            <a:off x="1523880" y="1600200"/>
            <a:ext cx="6248520" cy="468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Obsah prezentac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Úvod</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znam úkazu</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alší příležitos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lidesho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Úvod</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400" spc="-1" strike="noStrike">
                <a:solidFill>
                  <a:srgbClr val="ffffff"/>
                </a:solidFill>
                <a:latin typeface="Times New Roman"/>
              </a:rPr>
              <a:t>Přechod Venuše před Sluncem je velmi vzácným astronomickým úkazem.</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Vzhledem k tomu, že Venuše a Země obíhají Slunce téměř v rovině</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se může stát, že se Venuše dostane přesně mezi Zemi a Slunce a objeví se tak z pohledu pozemského pozorovatele jako tmavá tečka na pozadí Slunce. Tento jev se nazývá Venus transit a 8. Června 2004 byl pozorován miliony lidí po celém světě, kteří byli snad všichni okouzleni jeho krásou, jedinečností a tajemností.</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Význam úkazu</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2400" spc="-1" strike="noStrike">
                <a:solidFill>
                  <a:srgbClr val="ffffff"/>
                </a:solidFill>
                <a:latin typeface="Times New Roman"/>
              </a:rPr>
              <a:t>V minulosti umožnil tento úkaz vědcům určit vzdálenost mezi Zemí a Sluncem (astronomická jednotka) na základě jednoduchého trigonometricého principu</a:t>
            </a:r>
            <a:r>
              <a:rPr b="0" lang="cs-CZ" sz="3200" spc="-1" strike="noStrike">
                <a:solidFill>
                  <a:srgbClr val="ffffff"/>
                </a:solidFill>
                <a:latin typeface="Times New Roman"/>
              </a:rPr>
              <a:t>. </a:t>
            </a:r>
            <a:r>
              <a:rPr b="0" lang="cs-CZ" sz="2400" spc="-1" strike="noStrike">
                <a:solidFill>
                  <a:srgbClr val="ffffff"/>
                </a:solidFill>
                <a:latin typeface="Times New Roman"/>
              </a:rPr>
              <a:t>Také naznačil, že planeta Venuše má atmosféru, která se stává viditelnou, když se Venuše přibližuje slunečnímu disku. Z dnešního pohledu se zdá, že má tato událost už jen jediný význam. Ukazuje nám krásu astronomie a vesmíru.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Další příležitost</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okud jste neviděl(a) letošní přechod Venuše, máte další příležitost pozorovat jej 6. Června 2012. Ta však bude poslední příležitostí 21. Století. Nicméně uvědomte si, že bez použití dalekohledu není tento jev nijak zvlášť působivý.</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To mějte na mysli až se budete připravovat na jeho příští pozorování. A zatímco jej budete očekávat, užijte si prosím prohlížení následujících obrázků přechodu Venuše z roku 2004.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1" name="art1"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2" name="male_art7"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3" name="male_art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3500000"/>
        </a:gradFill>
      </p:bgPr>
    </p:bg>
    <p:spTree>
      <p:nvGrpSpPr>
        <p:cNvPr id="1" name=""/>
        <p:cNvGrpSpPr/>
        <p:nvPr/>
      </p:nvGrpSpPr>
      <p:grpSpPr>
        <a:xfrm>
          <a:off x="0" y="0"/>
          <a:ext cx="0" cy="0"/>
          <a:chOff x="0" y="0"/>
          <a:chExt cx="0" cy="0"/>
        </a:xfrm>
      </p:grpSpPr>
      <p:pic>
        <p:nvPicPr>
          <p:cNvPr id="54" name="art8"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7T19:56:35Z</dcterms:created>
  <dc:creator>a</dc:creator>
  <dc:description/>
  <dc:language>en-US</dc:language>
  <cp:lastModifiedBy>a</cp:lastModifiedBy>
  <dcterms:modified xsi:type="dcterms:W3CDTF">2004-06-10T12:57:23Z</dcterms:modified>
  <cp:revision>12</cp:revision>
  <dc:subject/>
  <dc:title>Venus Transit in the Easy Way</dc:title>
</cp:coreProperties>
</file>