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1BB9A-F837-474C-9C7B-8E0BDC106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3CE53-FA6A-4566-AF7B-2571C9467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51A0A-2839-43C5-B79A-1EFDD96AF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6E83C-3B42-438C-9396-FFB71CA2B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AD018-9F35-4654-BBD0-806ADE667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7210E-27D3-41FD-985A-65FB64C96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1510E-5143-4199-9A9A-FCE171B2E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BFCFC-3783-4459-908C-F0C8706CE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7BD9F-E61F-421B-9C80-ED8BBE88D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FDEDA-7F5B-4EA0-BC5E-252481BF4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30935-1247-45B7-9CE2-643CA8C7A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FBC28-18B7-4DE2-8CF1-8B42E97A5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7B24-F65D-4954-BC42-899BAF256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ffff"/>
                </a:solidFill>
                <a:uFillTx/>
                <a:latin typeface="Times New Roman"/>
              </a:rPr>
              <a:t>Venus Transit in the Easy Wa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066680" y="3886200"/>
            <a:ext cx="701064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imple, entertaining and accurat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pic>
        <p:nvPicPr>
          <p:cNvPr id="55" name="poz4" descr=""/>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pic>
        <p:nvPicPr>
          <p:cNvPr id="56" name="poz1"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ffff"/>
                </a:solidFill>
                <a:uFillTx/>
                <a:latin typeface="Times New Roman"/>
              </a:rPr>
              <a:t>Thank you for your attention.</a:t>
            </a:r>
            <a:endParaRPr b="0" lang="en-US" sz="4400" spc="-1" strike="noStrike">
              <a:solidFill>
                <a:srgbClr val="000000"/>
              </a:solidFill>
              <a:latin typeface="Times New Roman"/>
            </a:endParaRPr>
          </a:p>
        </p:txBody>
      </p:sp>
      <p:pic>
        <p:nvPicPr>
          <p:cNvPr id="58" name="poz5" descr=""/>
          <p:cNvPicPr/>
          <p:nvPr/>
        </p:nvPicPr>
        <p:blipFill>
          <a:blip r:embed="rId1"/>
          <a:stretch/>
        </p:blipFill>
        <p:spPr>
          <a:xfrm>
            <a:off x="1523880" y="1600200"/>
            <a:ext cx="6248520" cy="4686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ffff"/>
                </a:solidFill>
                <a:uFillTx/>
                <a:latin typeface="Times New Roman"/>
              </a:rPr>
              <a:t>Contents of the Presentation</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mportance of the event</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Next opportunity</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lideshow</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ffff"/>
                </a:solidFill>
                <a:uFillTx/>
                <a:latin typeface="Times New Roman"/>
              </a:rPr>
              <a:t>Introduct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ea typeface="Times New Roman"/>
              </a:rPr>
              <a:t>Venus transit is a very rare astronomical event. As Venus and Earth circulate around the Sun almost in a plane, it may happen that Venus will step between the Earth and the Sun and appear as a dot on its face as watched from the Earth. This event is called the Venus transit and on  June, </a:t>
            </a:r>
            <a:r>
              <a:rPr b="0" lang="cs-CZ" sz="2400" spc="-1" strike="noStrike">
                <a:solidFill>
                  <a:srgbClr val="ffffff"/>
                </a:solidFill>
                <a:latin typeface="Times New Roman"/>
              </a:rPr>
              <a:t>8</a:t>
            </a:r>
            <a:r>
              <a:rPr b="0" lang="cs-CZ" sz="2400" spc="-1" strike="noStrike">
                <a:solidFill>
                  <a:srgbClr val="ffffff"/>
                </a:solidFill>
                <a:latin typeface="Times New Roman"/>
                <a:ea typeface="Times New Roman"/>
              </a:rPr>
              <a:t>th  it was observed by millions of people, who </a:t>
            </a:r>
            <a:r>
              <a:rPr b="0" lang="cs-CZ" sz="2400" spc="-1" strike="noStrike">
                <a:solidFill>
                  <a:srgbClr val="ffffff"/>
                </a:solidFill>
                <a:latin typeface="Times New Roman"/>
              </a:rPr>
              <a:t>w</a:t>
            </a:r>
            <a:r>
              <a:rPr b="0" lang="cs-CZ" sz="2400" spc="-1" strike="noStrike">
                <a:solidFill>
                  <a:srgbClr val="ffffff"/>
                </a:solidFill>
                <a:latin typeface="Times New Roman"/>
                <a:ea typeface="Times New Roman"/>
              </a:rPr>
              <a:t>ere</a:t>
            </a:r>
            <a:r>
              <a:rPr b="0" lang="cs-CZ" sz="2400" spc="-1" strike="noStrike">
                <a:solidFill>
                  <a:srgbClr val="ffffff"/>
                </a:solidFill>
                <a:latin typeface="Times New Roman"/>
              </a:rPr>
              <a:t> mostly</a:t>
            </a:r>
            <a:r>
              <a:rPr b="0" lang="cs-CZ" sz="2400" spc="-1" strike="noStrike">
                <a:solidFill>
                  <a:srgbClr val="ffffff"/>
                </a:solidFill>
                <a:latin typeface="Times New Roman"/>
                <a:ea typeface="Times New Roman"/>
              </a:rPr>
              <a:t> impressed by beauty and mysteriousness</a:t>
            </a:r>
            <a:r>
              <a:rPr b="0" lang="cs-CZ" sz="2400" spc="-1" strike="noStrike">
                <a:solidFill>
                  <a:srgbClr val="ffffff"/>
                </a:solidFill>
                <a:latin typeface="Times New Roman"/>
              </a:rPr>
              <a:t> and uniqueness </a:t>
            </a:r>
            <a:r>
              <a:rPr b="0" lang="cs-CZ" sz="2400" spc="-1" strike="noStrike">
                <a:solidFill>
                  <a:srgbClr val="ffffff"/>
                </a:solidFill>
                <a:latin typeface="Times New Roman"/>
                <a:ea typeface="Times New Roman"/>
              </a:rPr>
              <a:t>of the latter.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ffff"/>
                </a:solidFill>
                <a:uFillTx/>
                <a:latin typeface="Times New Roman"/>
              </a:rPr>
              <a:t>Importance of the event</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2400" spc="-1" strike="noStrike">
                <a:solidFill>
                  <a:srgbClr val="ffffff"/>
                </a:solidFill>
                <a:latin typeface="Times New Roman"/>
              </a:rPr>
              <a:t>In the past this event helped the scientists to determine the distance between the Earth and the Sun (Astrnomical unit) on a basic trigonometric principle. It also suggested that the Venus has an atmosphere, which becomes visible as Venus approaches the Sun disk. Today, the only importance of this event seems to be the fact, that it shows us the beauty of astronomy and the space. </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ffff"/>
                </a:solidFill>
                <a:uFillTx/>
                <a:latin typeface="Times New Roman"/>
              </a:rPr>
              <a:t>Next opportunity</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2400" spc="-1" strike="noStrike">
                <a:solidFill>
                  <a:srgbClr val="ffffff"/>
                </a:solidFill>
                <a:latin typeface="Times New Roman"/>
              </a:rPr>
              <a:t>If you missed this year´s transit, you have another opportunity to observe it on 6th June 2012, which is the last one in the 21st century. Nevertheless, try to understand, that without the use of a telescope it is not particularly impressive. Bear that in mind while preparing for its next observation. And while you are looking forward to it please enjoy the following pictures of the Venus transit 2004</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pic>
        <p:nvPicPr>
          <p:cNvPr id="51" name="art1" descr=""/>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pic>
        <p:nvPicPr>
          <p:cNvPr id="52" name="male_art7"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pic>
        <p:nvPicPr>
          <p:cNvPr id="53" name="male_art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pic>
        <p:nvPicPr>
          <p:cNvPr id="54" name="art8" descr=""/>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7T19:56:35Z</dcterms:created>
  <dc:creator>a</dc:creator>
  <dc:description/>
  <dc:language>en-US</dc:language>
  <cp:lastModifiedBy>a</cp:lastModifiedBy>
  <dcterms:modified xsi:type="dcterms:W3CDTF">2004-06-10T12:57:24Z</dcterms:modified>
  <cp:revision>10</cp:revision>
  <dc:subject/>
  <dc:title>Venus Transit in the Easy Way</dc:title>
</cp:coreProperties>
</file>